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C7C-2A42-4A32-B71D-34E100ED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6E4-8230-40C0-BBCF-7E52D8F7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5B3-A63F-4F1E-AC2D-CFA4A7CB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143-E87F-421E-B0A0-2F5ECD6D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077-2068-4B95-A7A6-6609DC38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47F-8854-4C89-BFC3-51358088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E64-21F8-4BD2-9E6F-62020C13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E58-E2EF-4C49-BC9C-B8C12796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07B-4B69-4855-8182-3CB03A68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9B0-56D2-41EB-8748-DE3E4433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A80-972D-429B-8657-BC98C53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8F1-E0B5-454B-86E5-233A2BEC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604-1C3B-4570-B8A6-70CAA642C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reat San Francis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quake and Fire of 1906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180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024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4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24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1128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88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240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668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1168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7616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6232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47760" y="1641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0240" y="164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16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3280" y="167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240" y="1641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05120" y="2206800"/>
            <a:ext cx="5790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252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719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3372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42080" y="2174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5160" y="217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21337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560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0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58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616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72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5724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5680" y="202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41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241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948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0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81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1952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426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5796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1936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744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5520" y="209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57640" y="2098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96440" y="20988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40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15200" y="1946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2040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11480" y="1981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2200" y="1981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96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148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4000" y="1981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6320" y="202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1120" y="2057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52520" y="2022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24840" y="2022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205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6200" y="202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1680" y="1793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67040" y="179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7520" y="179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4480" y="1828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884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8160" y="1793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535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36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236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7680" y="1413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7240" y="1413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2872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9132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24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532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360" y="18702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05120" y="18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25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35440" y="187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224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54480" y="1870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95960" y="1870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132360" cy="313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14600" cy="91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819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060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712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840" y="171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404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59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7184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8000" y="1717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70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8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7360" y="1717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53160" y="1717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2:32Z</dcterms:modified>
  <cp:revision>13</cp:revision>
  <dc:subject/>
  <dc:title>No Slide Title</dc:title>
</cp:coreProperties>
</file>